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4AB-A298-48C2-906A-2410D35F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EF08-81CD-464C-9EC9-7810A08E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17C-03A4-445A-AC99-02C1EC44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EC5-F1FA-44FB-A053-D5D072BF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696-ABD3-458D-B382-4695A169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C61B-5011-4155-9F24-FE1E66C9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1D76-4E78-47DD-8425-FACCC9A1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ED4-5499-44AB-BCB5-D7B58692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C32C-7DAC-47BF-AB49-E5C7BE10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68F-6A21-4D03-BF83-24D7C431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1287-6553-4927-B3A1-253C96C1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E85-0EC6-4252-BCD5-1319D712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D2BC-35FE-4DF6-9AB9-ECD487BE1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im:  How did Benito Mussolini rise to power?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o Now:  Copy the weekly vocabul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in Kampf –Hitler’s book of his ide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Gestapo- German secret 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Anti-semitism – hatred for Jewish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) Blitzkrieg—type of war also called lightening war using massive bombing from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e of Benito Mussol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rn in a small town to a blacksmith and a school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s early career was as a newspaper editor and later became a politici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3200400" y="3657600"/>
            <a:ext cx="2427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6019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ussolini started the Fascist party in 1919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scism is a political movement that emphasized loyalty to 1 ruler or par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e promised to rescue Italy and rebuild its economy and arm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ctober of 1923 30,000 Fascist marched on Rome and demanded that King Victor Emanuell II put Mussolini in charge of the govern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King agreed 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ussolini was put in char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2355840" cy="330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5410080" y="4084560"/>
            <a:ext cx="37339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ussolini was called </a:t>
            </a:r>
            <a:r>
              <a:rPr b="1" lang="en-US" sz="3300" spc="-1" strike="noStrike">
                <a:solidFill>
                  <a:srgbClr val="000000"/>
                </a:solidFill>
                <a:latin typeface="Times New Roman Bold"/>
              </a:rPr>
              <a:t>Il Duc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which means the leader.  As Il Duce he organized a government where h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bolished democracy and outlawed all parties except the Fascis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Organized secret police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ensored radio and newspaper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Outlawed strikes and controlled the economy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ven though he was very strong in Italy he never reached the dictatorship power that Adolf Hitler or Joseph Stalin had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this picture for question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4678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4800600" y="228600"/>
            <a:ext cx="4343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s work Activity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 a VENN Diagram with your group  to organize the ideas that they have learned about over the past two days.  Compare and Contrast Adolf Hitler and Benito Mussol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2051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8:59:27Z</dcterms:created>
  <dc:creator>NYCDOE</dc:creator>
  <dc:description/>
  <dc:language>en-US</dc:language>
  <cp:lastModifiedBy>NYCDOE</cp:lastModifiedBy>
  <dcterms:modified xsi:type="dcterms:W3CDTF">2012-02-10T12:57:55Z</dcterms:modified>
  <cp:revision>8</cp:revision>
  <dc:subject/>
  <dc:title>Aim: How did Adolf Hitler influence a movement that changed world history? L34</dc:title>
</cp:coreProperties>
</file>